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00A-3C75-4185-9A29-697B814F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1A4-213D-4C74-A81F-4A4D253B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2EC-9F3F-4C3E-949A-BBA4F578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4C2-B2F8-457E-ABC3-B9E8FA2E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0CD-8688-46E8-8315-8D74163A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099-1A49-4A1E-B3E8-797EF9AA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6B5-1933-470F-A208-93150848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C62-B40D-43EF-84A5-2A363202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2A4-897D-440E-8502-1EEEAAC6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A45-D972-42D6-BAA8-1C64432A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D2F-DC05-4C18-B4EE-BD34C5F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0E7-F0D1-41E5-B1B7-0BBB8E55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6505-DF6C-4216-A327-0EC9101A3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video.jsp?pID=1640149541&amp;bcpid=1640149541&amp;bclid=57826465001&amp;bctid=76958613001" TargetMode="External"/><Relationship Id="rId2" Type="http://schemas.openxmlformats.org/officeDocument/2006/relationships/hyperlink" Target="http://www2.scholastic.com/browse/video.jsp?pID=1640149541&amp;bcpid=1640149541&amp;bclid=57826465001&amp;bctid=76958613001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Book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Book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view of a book by one person.  It should be short and exciting and should have a cliff hanger.  Its purpose is to sell the book.  It is not a full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Trailer- very short, action packed video shown to entice the person to read the book.  It has a plot but does not give away e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Book Talk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read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reading-If you liked this book, here are 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log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-Give book talk after 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 invite into a center or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Grabs readers 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s them to different gen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Exposed to different demographics and may relate to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be used in classroom and media center-especially 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 you meet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Helps children practice summarization and identifying elements of the s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tend to be commercial like and produced by author or publisher with the intent to sell the book not to entice the person to read the 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If children do book talks-some of them do not like to talk on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Book trailers want to persuade you to read the book-book talks want to excite you about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Some believe it to be a video recording just reading the book-not all used correc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Not many people can create a book trailer the way it should be made-low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fter Ever After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lack Rabbit Summ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Arriv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al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f Mice and Men 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e Natur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ok 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0:55:25Z</dcterms:modified>
  <cp:revision>4</cp:revision>
  <dc:subject/>
  <dc:title>Digital ___________</dc:title>
</cp:coreProperties>
</file>